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3.wmf" ContentType="image/x-wmf"/>
  <Override PartName="/ppt/media/image29.png" ContentType="image/png"/>
  <Override PartName="/ppt/media/image6.png" ContentType="image/png"/>
  <Override PartName="/ppt/media/image14.wmf" ContentType="image/x-wmf"/>
  <Override PartName="/ppt/media/image28.jpeg" ContentType="image/jpeg"/>
  <Override PartName="/ppt/media/image7.jpeg" ContentType="image/jpeg"/>
  <Override PartName="/ppt/media/image31.wmf" ContentType="image/x-wmf"/>
  <Override PartName="/ppt/media/image17.wmf" ContentType="image/x-wmf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30.wmf" ContentType="image/x-wmf"/>
  <Override PartName="/ppt/media/image4.png" ContentType="image/png"/>
  <Override PartName="/ppt/media/image3.png" ContentType="image/png"/>
  <Override PartName="/ppt/media/image12.png" ContentType="image/png"/>
  <Override PartName="/ppt/media/image23.jpeg" ContentType="image/jpeg"/>
  <Override PartName="/ppt/media/image1.jpeg" ContentType="image/jpeg"/>
  <Override PartName="/ppt/media/image15.wmf" ContentType="image/x-wmf"/>
  <Override PartName="/ppt/media/image16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22.png" ContentType="image/png"/>
  <Override PartName="/ppt/media/image24.jpeg" ContentType="image/jpeg"/>
  <Override PartName="/ppt/media/image25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5250-4998-47B9-BC24-0CDE290857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A77631-293E-4539-A942-CB46B0D3F32B}" type="slidenum">
              <a:rPr b="0" lang="en-US" sz="12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407-6350-49AA-8348-596DE1D9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7CE7-DCB0-4E05-9217-840B0E42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DC0F-1C2A-4E2C-91D7-83DC3938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2EA-1A86-4BED-B501-63B0E3B4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62259-2AC9-4E8D-A60E-BA1BDC24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F6A4-F076-4834-A7E9-6E801D05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31293-06F4-4195-8A69-B976DC11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3BE2-2676-4ACC-955C-60B909F8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C506-D023-40FB-89FD-B278C3BF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D351-6809-4950-9A41-9CFBE0B6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AD56F-0A2E-4A58-B862-ED1B9753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FF3-09DC-451F-A16E-798ECFA8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FA6F-1A34-4E3A-904D-2D7872EB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FAA2-CA9A-4417-9742-003395C7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B2F2-2BD8-490A-A017-3A11243E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82DD-6896-4D73-BCD4-94E449582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6B44-DAA5-4D31-B1E7-1DE9236B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931-23EB-4350-8CE8-3DC2AA3F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B4EE-B547-4929-ACD6-B9A10ABE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0D86-F4CE-4560-AEAC-988AD0D6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207-1B0B-4D76-B4E7-5BD2E969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7C74-D324-4D49-B57E-0347DF31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F991-98D4-472C-96BE-AD5B9C04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0B51-6572-4031-BDCD-E18D6EE3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d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2968-36EF-4923-867F-B2A531D36031}" type="datetime">
              <a:rPr b="0" lang="en-US" sz="1200" spc="-1" strike="noStrike">
                <a:solidFill>
                  <a:srgbClr val="8989da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d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da"/>
                </a:solidFill>
                <a:latin typeface="Arial"/>
              </a:rPr>
              <a:t>C.Woody, EIC DIRC Collab Mtg, JLAB, 3/27/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d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49B7-0472-4B0C-ADE1-C1B8DD362CE3}" type="slidenum">
              <a:rPr b="0" lang="en-US" sz="1200" spc="-1" strike="noStrike">
                <a:solidFill>
                  <a:srgbClr val="8989d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d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7462-FE45-4F0D-BD45-9C647C080106}" type="datetime">
              <a:rPr b="0" lang="en-US" sz="1200" spc="-1" strike="noStrike">
                <a:solidFill>
                  <a:srgbClr val="8989da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742840" y="6476760"/>
            <a:ext cx="34290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58ed5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kcing R&amp;D,  4/2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8ed5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80B1-7386-491D-8D96-AFE3909A99EB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90720" y="16765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&amp;D on TPC type drift detectors for EIC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747720" y="3048120"/>
            <a:ext cx="75708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C.Woody, M.Purschke, B.Azmou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Narrow"/>
              </a:rPr>
              <a:t>BN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Narrow"/>
              </a:rPr>
              <a:t>N.Smirnoff, R.Majka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Narrow"/>
              </a:rPr>
              <a:t>Yal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Others Welcome !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2209680" y="55627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 Narrow"/>
              </a:rPr>
              <a:t>EIC Tracking R&amp;D Meeting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 Narrow"/>
              </a:rPr>
              <a:t>April 2, 2012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2" name="Picture 13" descr="1phenix"/>
          <p:cNvPicPr/>
          <p:nvPr/>
        </p:nvPicPr>
        <p:blipFill>
          <a:blip r:embed="rId1"/>
          <a:stretch/>
        </p:blipFill>
        <p:spPr>
          <a:xfrm>
            <a:off x="457200" y="380880"/>
            <a:ext cx="1792440" cy="6508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6"/>
          <p:cNvSpPr/>
          <p:nvPr/>
        </p:nvSpPr>
        <p:spPr>
          <a:xfrm>
            <a:off x="609480" y="1295280"/>
            <a:ext cx="7848720" cy="152640"/>
          </a:xfrm>
          <a:prstGeom prst="rect">
            <a:avLst/>
          </a:prstGeom>
          <a:gradFill rotWithShape="0">
            <a:gsLst>
              <a:gs pos="0">
                <a:srgbClr val="4d0808"/>
              </a:gs>
              <a:gs pos="100000">
                <a:srgbClr val="fff2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4" name="Picture 18" descr="BNLlogo"/>
          <p:cNvPicPr/>
          <p:nvPr/>
        </p:nvPicPr>
        <p:blipFill>
          <a:blip r:embed="rId2"/>
          <a:stretch/>
        </p:blipFill>
        <p:spPr>
          <a:xfrm>
            <a:off x="6705720" y="304920"/>
            <a:ext cx="2084400" cy="8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0440" y="1825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ast, Compact TPC 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CCA2-7929-4A26-A9B1-0C77F9A021DF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430200" y="984240"/>
            <a:ext cx="8464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Resurrect the idea of a fast, compact TPC/HBD type detector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(originally proposed for PHENIX ~ 2001) for EIC  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Would combine low mass tracking, multiple high resolution space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point measurements, and particle id by dE/dx and Cherenkov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he idea for PHENIX was well received, but was never implemented,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mainly due to technical limitations (limited space available along z,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high concentration of heat load at the endcaps, compatibility with plan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for the then future VTX, cost &amp; schedule,…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A new, dedicated EIC detector would provide an opportunity to desig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and implement such a detector from the beginning.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Would add the greatest degree of tracking capabilities and particle id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with the lowest mass (and possibly the lowest cost…?)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0440" y="1825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HENIX TPC/HBD Detector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B1B8-40B0-400D-9BB5-B9168C0D1F53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83" name="Group 5"/>
          <p:cNvGrpSpPr/>
          <p:nvPr/>
        </p:nvGrpSpPr>
        <p:grpSpPr>
          <a:xfrm>
            <a:off x="380880" y="1248840"/>
            <a:ext cx="4391280" cy="4393800"/>
            <a:chOff x="380880" y="1248840"/>
            <a:chExt cx="4391280" cy="4393800"/>
          </a:xfrm>
        </p:grpSpPr>
        <p:graphicFrame>
          <p:nvGraphicFramePr>
            <p:cNvPr id="184" name="Object 1026"/>
            <p:cNvGraphicFramePr/>
            <p:nvPr/>
          </p:nvGraphicFramePr>
          <p:xfrm>
            <a:off x="685440" y="1294920"/>
            <a:ext cx="4086720" cy="3613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5" name="Object 102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440" y="1294920"/>
                      <a:ext cx="4086720" cy="3613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6" name="Text Box 1030"/>
            <p:cNvSpPr/>
            <p:nvPr/>
          </p:nvSpPr>
          <p:spPr>
            <a:xfrm>
              <a:off x="770040" y="5243760"/>
              <a:ext cx="37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99"/>
                  </a:solidFill>
                  <a:latin typeface="Arial Narrow"/>
                </a:rPr>
                <a:t>GEMs are used for both TPC and HBD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7" name="Text Box 1031"/>
            <p:cNvSpPr/>
            <p:nvPr/>
          </p:nvSpPr>
          <p:spPr>
            <a:xfrm>
              <a:off x="380880" y="182844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99"/>
                  </a:solidFill>
                  <a:latin typeface="Arial Narrow"/>
                </a:rPr>
                <a:t>TPC Readout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99"/>
                  </a:solidFill>
                  <a:latin typeface="Arial Narrow"/>
                </a:rPr>
                <a:t>Plane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8" name="Text Box 1032"/>
            <p:cNvSpPr/>
            <p:nvPr/>
          </p:nvSpPr>
          <p:spPr>
            <a:xfrm>
              <a:off x="1327680" y="124884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 Narrow"/>
                </a:rPr>
                <a:t>CsI  Readout Plane 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89" name="Line 1033"/>
            <p:cNvSpPr/>
            <p:nvPr/>
          </p:nvSpPr>
          <p:spPr>
            <a:xfrm>
              <a:off x="990360" y="2438280"/>
              <a:ext cx="152280" cy="533160"/>
            </a:xfrm>
            <a:prstGeom prst="line">
              <a:avLst/>
            </a:prstGeom>
            <a:ln w="15840">
              <a:solidFill>
                <a:srgbClr val="cc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90" name="Line 1034"/>
            <p:cNvSpPr/>
            <p:nvPr/>
          </p:nvSpPr>
          <p:spPr>
            <a:xfrm>
              <a:off x="1904760" y="1599840"/>
              <a:ext cx="152280" cy="533160"/>
            </a:xfrm>
            <a:prstGeom prst="line">
              <a:avLst/>
            </a:prstGeom>
            <a:ln w="15840">
              <a:solidFill>
                <a:srgbClr val="000099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91" name="Text Box 1035"/>
            <p:cNvSpPr/>
            <p:nvPr/>
          </p:nvSpPr>
          <p:spPr>
            <a:xfrm>
              <a:off x="3587400" y="4190400"/>
              <a:ext cx="107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 Narrow"/>
                </a:rPr>
                <a:t>Drift regions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92" name="Text Box 1036"/>
            <p:cNvSpPr/>
            <p:nvPr/>
          </p:nvSpPr>
          <p:spPr>
            <a:xfrm>
              <a:off x="455400" y="472356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Readout Pads</a:t>
              </a:r>
              <a:endParaRPr b="0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193" name="Text Box 1029"/>
          <p:cNvSpPr/>
          <p:nvPr/>
        </p:nvSpPr>
        <p:spPr>
          <a:xfrm>
            <a:off x="4898880" y="990720"/>
            <a:ext cx="4045320" cy="50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Fast, compact TPC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    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R&lt;70 cm, L&lt; 80 cm, T</a:t>
            </a:r>
            <a:r>
              <a:rPr b="0" lang="en-US" sz="2000" spc="-1" strike="noStrike" baseline="-25000">
                <a:solidFill>
                  <a:srgbClr val="0099cc"/>
                </a:solidFill>
                <a:latin typeface="Arial Narrow"/>
              </a:rPr>
              <a:t>drift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 &lt; 4 </a:t>
            </a:r>
            <a:r>
              <a:rPr b="0" lang="en-US" sz="2000" spc="-1" strike="noStrike">
                <a:solidFill>
                  <a:srgbClr val="0099cc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sec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Serves as an inner tracking detector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in both HI and pp, providing tracking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through the central magnetic fiel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             </a:t>
            </a:r>
            <a:r>
              <a:rPr b="0" lang="en-US" sz="2000" spc="-1" strike="noStrike">
                <a:solidFill>
                  <a:srgbClr val="0099cc"/>
                </a:solidFill>
                <a:latin typeface="Symbol"/>
                <a:ea typeface="Symbol"/>
              </a:rPr>
              <a:t>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= 2p, |</a:t>
            </a:r>
            <a:r>
              <a:rPr b="0" lang="en-US" sz="2000" spc="-1" strike="noStrike">
                <a:solidFill>
                  <a:srgbClr val="0099cc"/>
                </a:solidFill>
                <a:latin typeface="Symbol"/>
                <a:ea typeface="Symbol"/>
              </a:rPr>
              <a:t>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| &lt; 1.0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                     </a:t>
            </a:r>
            <a:r>
              <a:rPr b="0" lang="en-US" sz="2000" spc="-1" strike="noStrike">
                <a:solidFill>
                  <a:srgbClr val="0099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p/p ~ .02p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Provides electron id by dE/dx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2000" spc="-1" strike="noStrike">
                <a:solidFill>
                  <a:srgbClr val="0099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e/p separation below 200 MeV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HBD is a proximity focused Cherenkov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detector with a ~ 50 cm radiator length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Provides electron id with minimal signal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for charged particle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Narrow"/>
              </a:rPr>
              <a:t>        </a:t>
            </a:r>
            <a:r>
              <a:rPr b="0" lang="en-US" sz="2000" spc="-1" strike="noStrike">
                <a:solidFill>
                  <a:srgbClr val="0099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 “</a:t>
            </a:r>
            <a:r>
              <a:rPr b="0" lang="en-US" sz="2000" spc="-1" strike="noStrike">
                <a:solidFill>
                  <a:srgbClr val="0099cc"/>
                </a:solidFill>
                <a:latin typeface="Arial Narrow"/>
              </a:rPr>
              <a:t>Hadron Blind Detector”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17136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rift Gas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C439-3E53-433D-966D-80D7894830B2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4343400" y="3352680"/>
            <a:ext cx="4419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Gas mixtures containing CF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Arial Narrow"/>
              </a:rPr>
              <a:t>4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provide fast drift velocities, low diffusion and good quantum yield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4343400" y="914400"/>
            <a:ext cx="4267080" cy="2133720"/>
            <a:chOff x="4343400" y="914400"/>
            <a:chExt cx="4267080" cy="2133720"/>
          </a:xfrm>
        </p:grpSpPr>
        <p:sp>
          <p:nvSpPr>
            <p:cNvPr id="199" name="Rectangle 5"/>
            <p:cNvSpPr/>
            <p:nvPr/>
          </p:nvSpPr>
          <p:spPr>
            <a:xfrm>
              <a:off x="4343400" y="914400"/>
              <a:ext cx="4267080" cy="2133720"/>
            </a:xfrm>
            <a:prstGeom prst="rect">
              <a:avLst/>
            </a:prstGeom>
            <a:solidFill>
              <a:srgbClr val="ccecff"/>
            </a:solidFill>
            <a:ln w="158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00" name="Text Box 6"/>
            <p:cNvSpPr/>
            <p:nvPr/>
          </p:nvSpPr>
          <p:spPr>
            <a:xfrm>
              <a:off x="5089320" y="158760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graphicFrame>
          <p:nvGraphicFramePr>
            <p:cNvPr id="201" name="Object 7"/>
            <p:cNvGraphicFramePr/>
            <p:nvPr/>
          </p:nvGraphicFramePr>
          <p:xfrm>
            <a:off x="4572000" y="1066680"/>
            <a:ext cx="3819240" cy="17049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02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1066680"/>
                      <a:ext cx="3819240" cy="17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03" name="Group 8"/>
          <p:cNvGrpSpPr/>
          <p:nvPr/>
        </p:nvGrpSpPr>
        <p:grpSpPr>
          <a:xfrm>
            <a:off x="152280" y="762120"/>
            <a:ext cx="3810240" cy="5562360"/>
            <a:chOff x="152280" y="762120"/>
            <a:chExt cx="3810240" cy="5562360"/>
          </a:xfrm>
        </p:grpSpPr>
        <p:sp>
          <p:nvSpPr>
            <p:cNvPr id="204" name="Rectangle 9"/>
            <p:cNvSpPr/>
            <p:nvPr/>
          </p:nvSpPr>
          <p:spPr>
            <a:xfrm>
              <a:off x="152280" y="762120"/>
              <a:ext cx="3810240" cy="5562360"/>
            </a:xfrm>
            <a:prstGeom prst="rect">
              <a:avLst/>
            </a:prstGeom>
            <a:solidFill>
              <a:srgbClr val="eaeaea"/>
            </a:solidFill>
            <a:ln w="1584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205" name="Picture 10" descr="C:\Craig\Tpc\Gas data\CF4_diffusion_Vavra.bmp"/>
            <p:cNvPicPr/>
            <p:nvPr/>
          </p:nvPicPr>
          <p:blipFill>
            <a:blip r:embed="rId3"/>
            <a:stretch/>
          </p:blipFill>
          <p:spPr>
            <a:xfrm>
              <a:off x="380880" y="3962160"/>
              <a:ext cx="3318120" cy="189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11"/>
            <p:cNvSpPr/>
            <p:nvPr/>
          </p:nvSpPr>
          <p:spPr>
            <a:xfrm>
              <a:off x="763200" y="5943240"/>
              <a:ext cx="247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eece1"/>
                  </a:solidFill>
                  <a:latin typeface="Arial"/>
                </a:rPr>
                <a:t>J.Va’vra et.al., NIM A324 (1993) 113-126</a:t>
              </a:r>
              <a:endParaRPr b="0" lang="en-US" sz="1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207" name="Picture 12" descr="C:\Craig\Tpc\Scan-1A_CF4-Ar.jpg"/>
            <p:cNvPicPr/>
            <p:nvPr/>
          </p:nvPicPr>
          <p:blipFill>
            <a:blip r:embed="rId4"/>
            <a:stretch/>
          </p:blipFill>
          <p:spPr>
            <a:xfrm>
              <a:off x="533520" y="914040"/>
              <a:ext cx="3098520" cy="27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Text Box 13"/>
            <p:cNvSpPr/>
            <p:nvPr/>
          </p:nvSpPr>
          <p:spPr>
            <a:xfrm>
              <a:off x="380880" y="3657240"/>
              <a:ext cx="3346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eeece1"/>
                  </a:solidFill>
                  <a:latin typeface="Arial"/>
                </a:rPr>
                <a:t>L.G.Christophorou et.al.,  et.al., NIM 163 (1979) 141-149</a:t>
              </a:r>
              <a:endParaRPr b="0" lang="en-US" sz="10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4191120" y="4724280"/>
            <a:ext cx="4800600" cy="1191240"/>
          </a:xfrm>
          <a:prstGeom prst="rect">
            <a:avLst/>
          </a:prstGeom>
          <a:solidFill>
            <a:srgbClr val="ffffcc"/>
          </a:solidFill>
          <a:ln w="158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Would like to find a single gas (mixture) which would work as a drift gas, radiator gas and working gas for GEM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0440" y="1825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est Drift Cell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8AAF-5139-4338-99F5-77239FB57DF2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13" name="Group 5"/>
          <p:cNvGrpSpPr/>
          <p:nvPr/>
        </p:nvGrpSpPr>
        <p:grpSpPr>
          <a:xfrm>
            <a:off x="304920" y="1000080"/>
            <a:ext cx="8610480" cy="5326920"/>
            <a:chOff x="304920" y="1000080"/>
            <a:chExt cx="8610480" cy="5326920"/>
          </a:xfrm>
        </p:grpSpPr>
        <p:pic>
          <p:nvPicPr>
            <p:cNvPr id="214" name="Picture 3" descr="C:\Craig\Tpc\images\Drift Cell\Drift_cell_lower_source.jpg"/>
            <p:cNvPicPr/>
            <p:nvPr/>
          </p:nvPicPr>
          <p:blipFill>
            <a:blip r:embed="rId1"/>
            <a:stretch/>
          </p:blipFill>
          <p:spPr>
            <a:xfrm>
              <a:off x="3962520" y="4200480"/>
              <a:ext cx="2504880" cy="187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4"/>
            <p:cNvSpPr/>
            <p:nvPr/>
          </p:nvSpPr>
          <p:spPr>
            <a:xfrm>
              <a:off x="6248520" y="1380960"/>
              <a:ext cx="2666880" cy="7646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cc3300"/>
                  </a:solidFill>
                  <a:latin typeface="Arial"/>
                </a:rPr>
                <a:t>Drift Stack</a:t>
              </a:r>
              <a:endParaRPr b="0" lang="en-US" sz="24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3300"/>
                  </a:solidFill>
                  <a:latin typeface="Arial"/>
                </a:rPr>
                <a:t>(presently 30 cm </a:t>
              </a: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drift)</a:t>
              </a:r>
              <a:endParaRPr b="0" lang="en-US" sz="20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216" name="Picture 5" descr="C:\Craig\Tpc\LEGS_TPC_stack_2.JPG"/>
            <p:cNvPicPr/>
            <p:nvPr/>
          </p:nvPicPr>
          <p:blipFill>
            <a:blip r:embed="rId2"/>
            <a:stretch/>
          </p:blipFill>
          <p:spPr>
            <a:xfrm>
              <a:off x="4191120" y="1076040"/>
              <a:ext cx="1974600" cy="26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Text Box 6"/>
            <p:cNvSpPr/>
            <p:nvPr/>
          </p:nvSpPr>
          <p:spPr>
            <a:xfrm>
              <a:off x="6708600" y="2600280"/>
              <a:ext cx="2181600" cy="21780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Used to study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Drift velocities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Drift lengths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Diffusion parameters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Energy loss (dE/dx)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Study impurities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Readout structures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  <a:p>
              <a:pPr>
                <a:buClr>
                  <a:srgbClr val="00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Field cage design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pic>
          <p:nvPicPr>
            <p:cNvPr id="218" name="Picture 7" descr="C:\Craig\Tpc\images\Drift Cell\Drift_cell_laser.jpg"/>
            <p:cNvPicPr/>
            <p:nvPr/>
          </p:nvPicPr>
          <p:blipFill>
            <a:blip r:embed="rId3"/>
            <a:stretch/>
          </p:blipFill>
          <p:spPr>
            <a:xfrm>
              <a:off x="304920" y="1000080"/>
              <a:ext cx="3400200" cy="499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Text Box 8"/>
            <p:cNvSpPr/>
            <p:nvPr/>
          </p:nvSpPr>
          <p:spPr>
            <a:xfrm>
              <a:off x="458280" y="3886200"/>
              <a:ext cx="650160" cy="3070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 Narrow"/>
                </a:rPr>
                <a:t>Lenses</a:t>
              </a:r>
              <a:endParaRPr b="0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0" name="Text Box 9"/>
            <p:cNvSpPr/>
            <p:nvPr/>
          </p:nvSpPr>
          <p:spPr>
            <a:xfrm>
              <a:off x="6028560" y="5851440"/>
              <a:ext cx="1646640" cy="3070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 Narrow"/>
                </a:rPr>
                <a:t>Lower movable source</a:t>
              </a:r>
              <a:endParaRPr b="0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1" name="Line 10"/>
            <p:cNvSpPr/>
            <p:nvPr/>
          </p:nvSpPr>
          <p:spPr>
            <a:xfrm>
              <a:off x="5715000" y="5334120"/>
              <a:ext cx="457200" cy="4572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2" name="Text Box 11"/>
            <p:cNvSpPr/>
            <p:nvPr/>
          </p:nvSpPr>
          <p:spPr>
            <a:xfrm>
              <a:off x="508680" y="2489040"/>
              <a:ext cx="545040" cy="3070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 Narrow"/>
                </a:rPr>
                <a:t>Laser</a:t>
              </a:r>
              <a:endParaRPr b="0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3" name="Text Box 12"/>
            <p:cNvSpPr/>
            <p:nvPr/>
          </p:nvSpPr>
          <p:spPr>
            <a:xfrm>
              <a:off x="407880" y="4699080"/>
              <a:ext cx="919800" cy="3070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 Narrow"/>
                </a:rPr>
                <a:t>Triple GEM</a:t>
              </a:r>
              <a:endParaRPr b="0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 flipV="1">
              <a:off x="2286000" y="2742840"/>
              <a:ext cx="2666880" cy="10666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 flipV="1">
              <a:off x="5562720" y="2133360"/>
              <a:ext cx="685800" cy="304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6" name="Text Box 15"/>
            <p:cNvSpPr/>
            <p:nvPr/>
          </p:nvSpPr>
          <p:spPr>
            <a:xfrm>
              <a:off x="2599560" y="2514600"/>
              <a:ext cx="1404360" cy="3070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 Narrow"/>
                </a:rPr>
                <a:t>Upper fixed source</a:t>
              </a:r>
              <a:endParaRPr b="0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7" name="Line 16"/>
            <p:cNvSpPr/>
            <p:nvPr/>
          </p:nvSpPr>
          <p:spPr>
            <a:xfrm flipV="1">
              <a:off x="2209680" y="2819160"/>
              <a:ext cx="380880" cy="3045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8" name="Line 17"/>
            <p:cNvSpPr/>
            <p:nvPr/>
          </p:nvSpPr>
          <p:spPr>
            <a:xfrm>
              <a:off x="762120" y="2819160"/>
              <a:ext cx="228600" cy="3045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 flipH="1" flipV="1">
              <a:off x="1371240" y="4876560"/>
              <a:ext cx="609480" cy="15228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 flipV="1">
              <a:off x="1143000" y="3276360"/>
              <a:ext cx="457200" cy="7617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 flipV="1">
              <a:off x="1143000" y="3657600"/>
              <a:ext cx="457200" cy="38088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32" name="Line 21"/>
            <p:cNvSpPr/>
            <p:nvPr/>
          </p:nvSpPr>
          <p:spPr>
            <a:xfrm>
              <a:off x="1143000" y="4038480"/>
              <a:ext cx="457200" cy="304560"/>
            </a:xfrm>
            <a:prstGeom prst="line">
              <a:avLst/>
            </a:prstGeom>
            <a:ln w="15840">
              <a:solidFill>
                <a:srgbClr val="ff99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33" name="Text Box 22"/>
            <p:cNvSpPr/>
            <p:nvPr/>
          </p:nvSpPr>
          <p:spPr>
            <a:xfrm>
              <a:off x="3889800" y="4267080"/>
              <a:ext cx="496080" cy="3070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 Narrow"/>
                </a:rPr>
                <a:t>Lens</a:t>
              </a:r>
              <a:endParaRPr b="0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34" name="Line 23"/>
            <p:cNvSpPr/>
            <p:nvPr/>
          </p:nvSpPr>
          <p:spPr>
            <a:xfrm>
              <a:off x="4419720" y="4505400"/>
              <a:ext cx="304560" cy="1522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35" name="Text Box 24"/>
            <p:cNvSpPr/>
            <p:nvPr/>
          </p:nvSpPr>
          <p:spPr>
            <a:xfrm>
              <a:off x="1077120" y="6019920"/>
              <a:ext cx="174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99cc"/>
                  </a:solidFill>
                  <a:latin typeface="Arial"/>
                </a:rPr>
                <a:t>Lab 2-86 in Physics</a:t>
              </a:r>
              <a:endParaRPr b="0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36" name="Text Box 25"/>
            <p:cNvSpPr/>
            <p:nvPr/>
          </p:nvSpPr>
          <p:spPr>
            <a:xfrm>
              <a:off x="2901240" y="1828440"/>
              <a:ext cx="916920" cy="307080"/>
            </a:xfrm>
            <a:prstGeom prst="rect">
              <a:avLst/>
            </a:prstGeom>
            <a:solidFill>
              <a:srgbClr val="ffffcc"/>
            </a:solidFill>
            <a:ln w="158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 Narrow"/>
                </a:rPr>
                <a:t>Photodiode</a:t>
              </a:r>
              <a:endParaRPr b="0" lang="en-US" sz="14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0440" y="1825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ield Cage Desig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F901-3AAF-4F01-8564-45E50599320B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40" name="Picture 3" descr="C:\Craig\Tpc\Electric Field\Drift_cell_Maxwell.jpg"/>
          <p:cNvPicPr/>
          <p:nvPr/>
        </p:nvPicPr>
        <p:blipFill>
          <a:blip r:embed="rId1"/>
          <a:stretch/>
        </p:blipFill>
        <p:spPr>
          <a:xfrm>
            <a:off x="3733920" y="762120"/>
            <a:ext cx="5410080" cy="4124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C:\Craig\Tpc\Electric Field\Drift_cell_Maxwell_detail.jpg"/>
          <p:cNvPicPr/>
          <p:nvPr/>
        </p:nvPicPr>
        <p:blipFill>
          <a:blip r:embed="rId2"/>
          <a:stretch/>
        </p:blipFill>
        <p:spPr>
          <a:xfrm>
            <a:off x="609480" y="3581280"/>
            <a:ext cx="3218040" cy="23544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609480" y="3581280"/>
            <a:ext cx="3200400" cy="2362320"/>
          </a:xfrm>
          <a:prstGeom prst="rect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3" name="Line 6"/>
          <p:cNvSpPr/>
          <p:nvPr/>
        </p:nvSpPr>
        <p:spPr>
          <a:xfrm flipV="1">
            <a:off x="3809880" y="4038480"/>
            <a:ext cx="1143000" cy="457200"/>
          </a:xfrm>
          <a:prstGeom prst="line">
            <a:avLst/>
          </a:prstGeom>
          <a:ln w="28440">
            <a:solidFill>
              <a:srgbClr val="cc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4952880" y="3657600"/>
            <a:ext cx="609840" cy="533520"/>
          </a:xfrm>
          <a:prstGeom prst="ellipse">
            <a:avLst/>
          </a:prstGeom>
          <a:noFill/>
          <a:ln w="284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76320" y="1066680"/>
            <a:ext cx="41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 Narrow"/>
              </a:rPr>
              <a:t>Two Methods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Autocad geometry </a:t>
            </a:r>
            <a:r>
              <a:rPr b="0" lang="en-US" sz="2400" spc="-1" strike="noStrike">
                <a:solidFill>
                  <a:srgbClr val="0099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 MAXWEL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2D calculation using GARFIELD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7319520" y="41911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N.Smirnov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343400" y="5029200"/>
            <a:ext cx="427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3 mm electrodes with 2 mm spacing                      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Inner layer - two side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ＭＳ Ｐゴシック"/>
              </a:rPr>
              <a:t>Outer layer - one side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Also studied design with open wire top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17680" y="2602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eadout &amp; Electronic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9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29C17-E7D7-4F68-A798-4FDDE9452D9E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graphicFrame>
        <p:nvGraphicFramePr>
          <p:cNvPr id="251" name="Object 1027"/>
          <p:cNvGraphicFramePr/>
          <p:nvPr/>
        </p:nvGraphicFramePr>
        <p:xfrm>
          <a:off x="660240" y="928800"/>
          <a:ext cx="3556080" cy="288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0240" y="928800"/>
                    <a:ext cx="355608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Line 1046"/>
          <p:cNvSpPr/>
          <p:nvPr/>
        </p:nvSpPr>
        <p:spPr>
          <a:xfrm>
            <a:off x="990720" y="1295280"/>
            <a:ext cx="533160" cy="129564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4" name="Arc 1047"/>
          <p:cNvSpPr/>
          <p:nvPr/>
        </p:nvSpPr>
        <p:spPr>
          <a:xfrm flipH="1">
            <a:off x="637560" y="1828800"/>
            <a:ext cx="533160" cy="563400"/>
          </a:xfrm>
          <a:custGeom>
            <a:avLst/>
            <a:gdLst/>
            <a:ahLst/>
            <a:rect l="l" t="t" r="r" b="b"/>
            <a:pathLst>
              <a:path fill="none" w="21600" h="2297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059"/>
                  <a:pt x="21585" y="22519"/>
                  <a:pt x="21555" y="22977"/>
                </a:cubicBezTo>
              </a:path>
              <a:path stroke="0" w="21600" h="2297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059"/>
                  <a:pt x="21585" y="22519"/>
                  <a:pt x="21555" y="22977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99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5" name="Line 1048"/>
          <p:cNvSpPr/>
          <p:nvPr/>
        </p:nvSpPr>
        <p:spPr>
          <a:xfrm>
            <a:off x="638280" y="2362320"/>
            <a:ext cx="641160" cy="258264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6" name="Text Box 1028"/>
          <p:cNvSpPr/>
          <p:nvPr/>
        </p:nvSpPr>
        <p:spPr>
          <a:xfrm>
            <a:off x="1370880" y="3889440"/>
            <a:ext cx="235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 Narrow"/>
              </a:rPr>
              <a:t>Chevron Readout Pads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Arial Narrow"/>
              </a:rPr>
              <a:t>35 pad rows, 5K ch/plan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99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c3399"/>
                </a:solidFill>
                <a:latin typeface="Arial Narrow"/>
              </a:rPr>
              <a:t>R ~ 1 cm, R</a:t>
            </a:r>
            <a:r>
              <a:rPr b="0" lang="en-US" sz="1800" spc="-1" strike="noStrike">
                <a:solidFill>
                  <a:srgbClr val="cc3399"/>
                </a:solidFill>
                <a:latin typeface="Symbol"/>
                <a:ea typeface="Symbol"/>
              </a:rPr>
              <a:t></a:t>
            </a:r>
            <a:r>
              <a:rPr b="0" lang="en-US" sz="1800" spc="-1" strike="noStrike">
                <a:solidFill>
                  <a:srgbClr val="cc3399"/>
                </a:solidFill>
                <a:latin typeface="Arial Narrow"/>
              </a:rPr>
              <a:t> ~ 2 mm</a:t>
            </a:r>
            <a:r>
              <a:rPr b="0" lang="en-US" sz="1800" spc="-1" strike="noStrike">
                <a:solidFill>
                  <a:srgbClr val="0099ff"/>
                </a:solidFill>
                <a:latin typeface="Arial Narrow"/>
              </a:rPr>
              <a:t>  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257" name="Group 1030"/>
          <p:cNvGrpSpPr/>
          <p:nvPr/>
        </p:nvGrpSpPr>
        <p:grpSpPr>
          <a:xfrm>
            <a:off x="270360" y="4944960"/>
            <a:ext cx="3723840" cy="870840"/>
            <a:chOff x="270360" y="4944960"/>
            <a:chExt cx="3723840" cy="870840"/>
          </a:xfrm>
        </p:grpSpPr>
        <p:grpSp>
          <p:nvGrpSpPr>
            <p:cNvPr id="258" name="Group 1031"/>
            <p:cNvGrpSpPr/>
            <p:nvPr/>
          </p:nvGrpSpPr>
          <p:grpSpPr>
            <a:xfrm>
              <a:off x="1098720" y="4944960"/>
              <a:ext cx="2895480" cy="457200"/>
              <a:chOff x="1098720" y="4944960"/>
              <a:chExt cx="2895480" cy="457200"/>
            </a:xfrm>
          </p:grpSpPr>
          <p:sp>
            <p:nvSpPr>
              <p:cNvPr id="259" name="Rectangle 1032"/>
              <p:cNvSpPr/>
              <p:nvPr/>
            </p:nvSpPr>
            <p:spPr>
              <a:xfrm>
                <a:off x="1098720" y="4944960"/>
                <a:ext cx="2895480" cy="365760"/>
              </a:xfrm>
              <a:prstGeom prst="rect">
                <a:avLst/>
              </a:prstGeom>
              <a:noFill/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60" name="Line 1033"/>
              <p:cNvSpPr/>
              <p:nvPr/>
            </p:nvSpPr>
            <p:spPr>
              <a:xfrm>
                <a:off x="1158840" y="5310720"/>
                <a:ext cx="0" cy="9108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61" name="Line 1034"/>
              <p:cNvSpPr/>
              <p:nvPr/>
            </p:nvSpPr>
            <p:spPr>
              <a:xfrm>
                <a:off x="3873240" y="5310720"/>
                <a:ext cx="0" cy="9108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  <p:sp>
            <p:nvSpPr>
              <p:cNvPr id="262" name="Line 1035"/>
              <p:cNvSpPr/>
              <p:nvPr/>
            </p:nvSpPr>
            <p:spPr>
              <a:xfrm>
                <a:off x="1158840" y="5402160"/>
                <a:ext cx="2714400" cy="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cc"/>
                  </a:solidFill>
                  <a:latin typeface="Arial"/>
                </a:endParaRPr>
              </a:p>
            </p:txBody>
          </p:sp>
        </p:grpSp>
        <p:sp>
          <p:nvSpPr>
            <p:cNvPr id="263" name="Text Box 1036"/>
            <p:cNvSpPr/>
            <p:nvPr/>
          </p:nvSpPr>
          <p:spPr>
            <a:xfrm>
              <a:off x="1637640" y="4968720"/>
              <a:ext cx="166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cc"/>
                  </a:solidFill>
                  <a:latin typeface="Arial Narrow"/>
                </a:rPr>
                <a:t>200 ch readout card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4" name="Line 1037"/>
            <p:cNvSpPr/>
            <p:nvPr/>
          </p:nvSpPr>
          <p:spPr>
            <a:xfrm>
              <a:off x="1098720" y="5478480"/>
              <a:ext cx="0" cy="304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5" name="Line 1038"/>
            <p:cNvSpPr/>
            <p:nvPr/>
          </p:nvSpPr>
          <p:spPr>
            <a:xfrm>
              <a:off x="3994200" y="5478480"/>
              <a:ext cx="0" cy="304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6" name="Line 1039"/>
            <p:cNvSpPr/>
            <p:nvPr/>
          </p:nvSpPr>
          <p:spPr>
            <a:xfrm>
              <a:off x="1098720" y="5630760"/>
              <a:ext cx="106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7" name="Line 1040"/>
            <p:cNvSpPr/>
            <p:nvPr/>
          </p:nvSpPr>
          <p:spPr>
            <a:xfrm>
              <a:off x="3079800" y="563076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8" name="Text Box 1041"/>
            <p:cNvSpPr/>
            <p:nvPr/>
          </p:nvSpPr>
          <p:spPr>
            <a:xfrm>
              <a:off x="2317680" y="5478480"/>
              <a:ext cx="654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Narrow"/>
                </a:rPr>
                <a:t>15 cm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69" name="Line 1042"/>
            <p:cNvSpPr/>
            <p:nvPr/>
          </p:nvSpPr>
          <p:spPr>
            <a:xfrm>
              <a:off x="717480" y="4944960"/>
              <a:ext cx="228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70" name="Line 1043"/>
            <p:cNvSpPr/>
            <p:nvPr/>
          </p:nvSpPr>
          <p:spPr>
            <a:xfrm>
              <a:off x="717480" y="5325840"/>
              <a:ext cx="228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71" name="Line 1044"/>
            <p:cNvSpPr/>
            <p:nvPr/>
          </p:nvSpPr>
          <p:spPr>
            <a:xfrm>
              <a:off x="870120" y="4944960"/>
              <a:ext cx="0" cy="38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272" name="Text Box 1045"/>
            <p:cNvSpPr/>
            <p:nvPr/>
          </p:nvSpPr>
          <p:spPr>
            <a:xfrm>
              <a:off x="270360" y="4944960"/>
              <a:ext cx="54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 Narrow"/>
                </a:rPr>
                <a:t>5 cm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pic>
        <p:nvPicPr>
          <p:cNvPr id="273" name="Object 5" descr=""/>
          <p:cNvPicPr/>
          <p:nvPr/>
        </p:nvPicPr>
        <p:blipFill>
          <a:blip r:embed="rId3"/>
          <a:stretch/>
        </p:blipFill>
        <p:spPr>
          <a:xfrm>
            <a:off x="4648320" y="1295280"/>
            <a:ext cx="3911400" cy="27702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050"/>
          <p:cNvSpPr/>
          <p:nvPr/>
        </p:nvSpPr>
        <p:spPr>
          <a:xfrm>
            <a:off x="5654160" y="855720"/>
            <a:ext cx="188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Narrow"/>
              </a:rPr>
              <a:t>Readout parameter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5" name="Text Box 1049"/>
          <p:cNvSpPr/>
          <p:nvPr/>
        </p:nvSpPr>
        <p:spPr>
          <a:xfrm>
            <a:off x="4901040" y="4348080"/>
            <a:ext cx="3389760" cy="1740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 Narrow"/>
              </a:rPr>
              <a:t>                   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Arial Narrow"/>
              </a:rPr>
              <a:t>Requirement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 Narrow"/>
              </a:rPr>
              <a:t>Very high density readout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 Narrow"/>
              </a:rPr>
              <a:t>Need to minimize power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 Narrow"/>
              </a:rPr>
              <a:t>Low noise, zero suppression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66cc"/>
                </a:solidFill>
                <a:latin typeface="Arial Narrow"/>
              </a:rPr>
              <a:t>Minimize data volume (triggering)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0440" y="18252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&amp;D Plan for Fast, Compact TPC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DF73-4CD4-4A3D-B9CC-CB379083F913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412920" y="973080"/>
            <a:ext cx="846432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Build a small prototype detector which would allow us to study both th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PC and Cherenkov features independently, and eventually as a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combined detector.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Narrow"/>
                <a:ea typeface="ＭＳ Ｐゴシック"/>
              </a:rPr>
              <a:t>Planar drift TPC w/GEM readout in one direction, separate CsI GEM Cherenkov detector in perpendicular directio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Narrow"/>
                <a:ea typeface="ＭＳ Ｐゴシック"/>
              </a:rPr>
              <a:t>Study different drift gases, measure drift velocities, diffusion, etc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Narrow"/>
                <a:ea typeface="ＭＳ Ｐゴシック"/>
              </a:rPr>
              <a:t>Add CsI GEM detector and try and operate as a Cherenkov detector in the same gas at the same tim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Narrow"/>
                <a:ea typeface="ＭＳ Ｐゴシック"/>
              </a:rPr>
              <a:t>Study different readout planes for both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Use SRS single hit readout electronics (not perfect, but hopefully enough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o get started)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est in the lab with sources and cosmic rays, and eventually do a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complete study in a test beam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30200" y="7596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sues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A497-5626-443B-8227-5A71DCE2C6A9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420840" y="762120"/>
            <a:ext cx="8464320" cy="57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With the current level of manpower and resources, </a:t>
            </a:r>
            <a:r>
              <a:rPr b="0" lang="en-US" sz="2400" spc="-1" strike="noStrike">
                <a:solidFill>
                  <a:srgbClr val="c00000"/>
                </a:solidFill>
                <a:latin typeface="Arial Narrow"/>
              </a:rPr>
              <a:t>it’s just not possibl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c00000"/>
                </a:solidFill>
                <a:latin typeface="Arial Narrow"/>
              </a:rPr>
              <a:t>to pursue all of these developments at the same time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Main focus has been on short drift Mini TPC, which may be a good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choice for EIC in the forward direction, but may not be the optimal choic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for the central region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Developing a full scale TPC detector (even a small one..) is a </a:t>
            </a:r>
            <a:r>
              <a:rPr b="1" lang="en-US" sz="2400" spc="-1" strike="noStrike">
                <a:solidFill>
                  <a:srgbClr val="c00000"/>
                </a:solidFill>
                <a:latin typeface="Arial Narrow"/>
              </a:rPr>
              <a:t>Big Job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Needs simulations, field cage design, space charge calculations,  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 Narrow"/>
              </a:rPr>
              <a:t>   </a:t>
            </a:r>
            <a:r>
              <a:rPr b="0" i="1" lang="en-US" sz="2400" spc="-1" strike="noStrike">
                <a:solidFill>
                  <a:srgbClr val="c00000"/>
                </a:solidFill>
                <a:latin typeface="Arial Narrow"/>
              </a:rPr>
              <a:t>electronics development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, estimated performance in a magnetic field,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detailed beam studies, etc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We should not try and reinvent the wheel ourselves. A great deal of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work on TPCs with MPGD readout has been done by various ILC groups,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and we should make contact with them and build on their experience.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The really unique thing about this proposed R&amp;D is the combined TPC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Arial Narrow"/>
              </a:rPr>
              <a:t>and Cherenkov feature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&amp;D Budget (BNL)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5BE8-E21C-4178-A08A-85CCD3C5BEC3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287" name="Object 4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041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3960" y="6094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tudy Basic Detector Types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6C6E-6642-44F7-B4C6-E2E08D72977F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53960" y="1752480"/>
            <a:ext cx="8182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Short drift planar miniTPC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Cylindrical short radial drift TPC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(could possibly also include a non-TPC design)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Fast, compact full TPC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   </a:t>
            </a:r>
            <a:r>
              <a:rPr b="0" lang="en-US" sz="32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Arial Narrow"/>
              </a:rPr>
              <a:t>combined with HBD type Cherenkov detector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hort Drift Mini TPC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6EE3-5C5F-4388-BA0F-3B8CF15285D2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2" name="Picture 11" descr=""/>
          <p:cNvPicPr/>
          <p:nvPr/>
        </p:nvPicPr>
        <p:blipFill>
          <a:blip r:embed="rId1"/>
          <a:srcRect l="0" t="0" r="2187" b="0"/>
          <a:stretch/>
        </p:blipFill>
        <p:spPr>
          <a:xfrm>
            <a:off x="533520" y="1981080"/>
            <a:ext cx="3344760" cy="18306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"/>
          <p:cNvSpPr/>
          <p:nvPr/>
        </p:nvSpPr>
        <p:spPr>
          <a:xfrm>
            <a:off x="1295280" y="114300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Arial"/>
              </a:rPr>
              <a:t>ATLAS Muon Tracker Trigger Upgrade 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33cc"/>
                </a:solidFill>
                <a:latin typeface="Arial"/>
              </a:rPr>
              <a:t>V.Polychronakos, G.De Geronimo (BNL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4" name="Picture 73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797040" cy="9414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2133720" y="3809880"/>
            <a:ext cx="1371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3399"/>
                </a:solidFill>
                <a:latin typeface="Arial"/>
              </a:rPr>
              <a:t>MicroMega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4724280" y="990720"/>
            <a:ext cx="400392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4"/>
          <a:stretch/>
        </p:blipFill>
        <p:spPr>
          <a:xfrm>
            <a:off x="5029200" y="3657600"/>
            <a:ext cx="3809880" cy="2719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"/>
          <p:cNvSpPr/>
          <p:nvPr/>
        </p:nvSpPr>
        <p:spPr>
          <a:xfrm>
            <a:off x="838080" y="4952880"/>
            <a:ext cx="35053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990099"/>
                </a:solidFill>
                <a:latin typeface="Arial"/>
              </a:rPr>
              <a:t>Also developing custom designed readout chip (VMM1) – update by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90099"/>
                </a:solidFill>
                <a:latin typeface="Arial"/>
              </a:rPr>
              <a:t>Gianluigi tomorrow....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09480" y="43434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Doing the same with GEMs 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AD272-8F01-416B-8D9D-3253957AC4EC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1143000" y="7632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Beta Source Test Stand</a:t>
            </a:r>
            <a:endParaRPr b="0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228600" y="3581280"/>
            <a:ext cx="632448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Use Sr-90 source to produce collimated beam of</a:t>
            </a:r>
            <a:r>
              <a:rPr b="0" lang="it-IT" sz="1800" spc="-1" strike="noStrike">
                <a:solidFill>
                  <a:srgbClr val="3333cc"/>
                </a:solidFill>
                <a:latin typeface="Symbol"/>
                <a:ea typeface="Symbol"/>
              </a:rPr>
              <a:t>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’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E</a:t>
            </a:r>
            <a:r>
              <a:rPr b="0" lang="it-IT" sz="1800" spc="-1" strike="noStrike" baseline="-25000">
                <a:solidFill>
                  <a:srgbClr val="3333cc"/>
                </a:solidFill>
                <a:latin typeface="Arial"/>
              </a:rPr>
              <a:t>max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= 2.3 MeV (enough to pass through many cm of gas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Can produce ~ mm size collimated beam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Need to suppress background from </a:t>
            </a:r>
            <a:r>
              <a:rPr b="0" lang="it-IT" sz="18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’s and </a:t>
            </a:r>
            <a:r>
              <a:rPr b="0" lang="it-IT" sz="1800" spc="-1" strike="noStrike">
                <a:solidFill>
                  <a:srgbClr val="3333cc"/>
                </a:solidFill>
                <a:latin typeface="Symbol"/>
                <a:ea typeface="Symbol"/>
              </a:rPr>
              <a:t>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’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Can rotate to various angles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Easier and faster than cosmic rays, but will eventually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need a cosmic ray telescope to measure real resolution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Ultimately want to measure in a test beam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14" name="Picture 11" descr="..\GEM studies\Images\DSC03474.JPG"/>
          <p:cNvPicPr/>
          <p:nvPr/>
        </p:nvPicPr>
        <p:blipFill>
          <a:blip r:embed="rId1"/>
          <a:stretch/>
        </p:blipFill>
        <p:spPr>
          <a:xfrm>
            <a:off x="380880" y="838080"/>
            <a:ext cx="4635720" cy="2606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SRS GEM 2"/>
          <p:cNvPicPr/>
          <p:nvPr/>
        </p:nvPicPr>
        <p:blipFill>
          <a:blip r:embed="rId2"/>
          <a:srcRect l="23414" t="0" r="17254" b="0"/>
          <a:stretch/>
        </p:blipFill>
        <p:spPr>
          <a:xfrm>
            <a:off x="6426360" y="3489480"/>
            <a:ext cx="2468520" cy="23414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3429000" y="13716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Arial"/>
              </a:rPr>
              <a:t>6 mCi </a:t>
            </a:r>
            <a:r>
              <a:rPr b="1" lang="it-IT" sz="1200" spc="-1" strike="noStrike" baseline="30000">
                <a:solidFill>
                  <a:srgbClr val="ffff00"/>
                </a:solidFill>
                <a:latin typeface="Arial"/>
              </a:rPr>
              <a:t>90</a:t>
            </a:r>
            <a:r>
              <a:rPr b="1" lang="it-IT" sz="1200" spc="-1" strike="noStrike">
                <a:solidFill>
                  <a:srgbClr val="ffff00"/>
                </a:solidFill>
                <a:latin typeface="Arial"/>
              </a:rPr>
              <a:t>Sr source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 flipH="1">
            <a:off x="2819160" y="1523880"/>
            <a:ext cx="609480" cy="533520"/>
          </a:xfrm>
          <a:prstGeom prst="line">
            <a:avLst/>
          </a:prstGeom>
          <a:ln w="15840">
            <a:solidFill>
              <a:srgbClr val="ff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429000" y="175248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Arial"/>
              </a:rPr>
              <a:t>Brass collimator with small hole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2819520" y="1980720"/>
            <a:ext cx="609480" cy="381240"/>
          </a:xfrm>
          <a:prstGeom prst="line">
            <a:avLst/>
          </a:prstGeom>
          <a:ln w="158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762520" y="5884920"/>
            <a:ext cx="308628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996600"/>
                </a:solidFill>
                <a:latin typeface="Arial"/>
              </a:rPr>
              <a:t>CERN GEM detector with COMPASS style readout plane (</a:t>
            </a:r>
            <a:r>
              <a:rPr b="0" lang="it-IT" sz="1200" spc="-1" strike="noStrike">
                <a:solidFill>
                  <a:srgbClr val="996600"/>
                </a:solidFill>
                <a:latin typeface="Symbol"/>
                <a:ea typeface="Symbol"/>
              </a:rPr>
              <a:t></a:t>
            </a:r>
            <a:r>
              <a:rPr b="0" lang="it-IT" sz="1200" spc="-1" strike="noStrike">
                <a:solidFill>
                  <a:srgbClr val="996600"/>
                </a:solidFill>
                <a:latin typeface="Arial"/>
              </a:rPr>
              <a:t> other readout planes)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1" name="Picture 15" descr=""/>
          <p:cNvPicPr/>
          <p:nvPr/>
        </p:nvPicPr>
        <p:blipFill>
          <a:blip r:embed="rId3"/>
          <a:stretch/>
        </p:blipFill>
        <p:spPr>
          <a:xfrm>
            <a:off x="5451480" y="762120"/>
            <a:ext cx="3657600" cy="24796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7095960" y="623880"/>
            <a:ext cx="1847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0000"/>
                </a:solidFill>
                <a:latin typeface="Arial"/>
              </a:rPr>
              <a:t>Many thanks to Martin !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400" y="26316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mulation of Micro TPC with GEM Readou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D3AA-069A-46BE-BA5D-ABCA82A642A6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6" name="Picture 10" descr="C:\Craig\GEM studies\Position resolution\Clusters_vs_time.jpg"/>
          <p:cNvPicPr/>
          <p:nvPr/>
        </p:nvPicPr>
        <p:blipFill>
          <a:blip r:embed="rId1"/>
          <a:stretch/>
        </p:blipFill>
        <p:spPr>
          <a:xfrm>
            <a:off x="914400" y="3710160"/>
            <a:ext cx="3656160" cy="20811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1"/>
          <p:cNvSpPr/>
          <p:nvPr/>
        </p:nvSpPr>
        <p:spPr>
          <a:xfrm>
            <a:off x="403920" y="5867280"/>
            <a:ext cx="40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lusters vs tim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with and without diffusion and SA response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grpSp>
        <p:nvGrpSpPr>
          <p:cNvPr id="128" name="Group 20"/>
          <p:cNvGrpSpPr/>
          <p:nvPr/>
        </p:nvGrpSpPr>
        <p:grpSpPr>
          <a:xfrm>
            <a:off x="228600" y="844560"/>
            <a:ext cx="5181480" cy="2736720"/>
            <a:chOff x="228600" y="844560"/>
            <a:chExt cx="5181480" cy="2736720"/>
          </a:xfrm>
        </p:grpSpPr>
        <p:pic>
          <p:nvPicPr>
            <p:cNvPr id="129" name="Picture 15" descr=""/>
            <p:cNvPicPr/>
            <p:nvPr/>
          </p:nvPicPr>
          <p:blipFill>
            <a:blip r:embed="rId2"/>
            <a:srcRect l="0" t="19091" r="21056" b="0"/>
            <a:stretch/>
          </p:blipFill>
          <p:spPr>
            <a:xfrm>
              <a:off x="228600" y="996840"/>
              <a:ext cx="5029200" cy="258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Line 5"/>
            <p:cNvSpPr/>
            <p:nvPr/>
          </p:nvSpPr>
          <p:spPr>
            <a:xfrm>
              <a:off x="2438280" y="844560"/>
              <a:ext cx="0" cy="129528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2745000" y="122544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275ae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2" name="Oval 13"/>
            <p:cNvSpPr/>
            <p:nvPr/>
          </p:nvSpPr>
          <p:spPr>
            <a:xfrm>
              <a:off x="2498760" y="2047680"/>
              <a:ext cx="92160" cy="92160"/>
            </a:xfrm>
            <a:prstGeom prst="ellipse">
              <a:avLst/>
            </a:prstGeom>
            <a:solidFill>
              <a:srgbClr val="ff3300"/>
            </a:solidFill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3" name="Oval 14"/>
            <p:cNvSpPr/>
            <p:nvPr/>
          </p:nvSpPr>
          <p:spPr>
            <a:xfrm>
              <a:off x="2819520" y="1728720"/>
              <a:ext cx="182520" cy="182520"/>
            </a:xfrm>
            <a:prstGeom prst="ellipse">
              <a:avLst/>
            </a:prstGeom>
            <a:solidFill>
              <a:srgbClr val="ff3300"/>
            </a:solidFill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4" name="Oval 15"/>
            <p:cNvSpPr/>
            <p:nvPr/>
          </p:nvSpPr>
          <p:spPr>
            <a:xfrm>
              <a:off x="3108240" y="1606320"/>
              <a:ext cx="73080" cy="73080"/>
            </a:xfrm>
            <a:prstGeom prst="ellipse">
              <a:avLst/>
            </a:prstGeom>
            <a:solidFill>
              <a:srgbClr val="ff3300"/>
            </a:solidFill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5" name="Oval 16"/>
            <p:cNvSpPr/>
            <p:nvPr/>
          </p:nvSpPr>
          <p:spPr>
            <a:xfrm>
              <a:off x="3336840" y="1454040"/>
              <a:ext cx="136440" cy="136440"/>
            </a:xfrm>
            <a:prstGeom prst="ellipse">
              <a:avLst/>
            </a:prstGeom>
            <a:solidFill>
              <a:srgbClr val="ff3300"/>
            </a:solidFill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6" name="Oval 17"/>
            <p:cNvSpPr/>
            <p:nvPr/>
          </p:nvSpPr>
          <p:spPr>
            <a:xfrm>
              <a:off x="3565440" y="1301760"/>
              <a:ext cx="92160" cy="91800"/>
            </a:xfrm>
            <a:prstGeom prst="ellipse">
              <a:avLst/>
            </a:prstGeom>
            <a:solidFill>
              <a:srgbClr val="ff3300"/>
            </a:solidFill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7" name="Arc 18"/>
            <p:cNvSpPr/>
            <p:nvPr/>
          </p:nvSpPr>
          <p:spPr>
            <a:xfrm>
              <a:off x="2438280" y="1455480"/>
              <a:ext cx="660600" cy="914400"/>
            </a:xfrm>
            <a:custGeom>
              <a:avLst/>
              <a:gdLst/>
              <a:ahLst/>
              <a:rect l="l" t="t" r="r" b="b"/>
              <a:pathLst>
                <a:path fill="none" w="15614" h="21600">
                  <a:moveTo>
                    <a:pt x="-1" y="0"/>
                  </a:moveTo>
                  <a:cubicBezTo>
                    <a:pt x="5897" y="0"/>
                    <a:pt x="11538" y="2411"/>
                    <a:pt x="15614" y="6674"/>
                  </a:cubicBezTo>
                </a:path>
                <a:path stroke="0" w="15614" h="21600">
                  <a:moveTo>
                    <a:pt x="-1" y="0"/>
                  </a:moveTo>
                  <a:cubicBezTo>
                    <a:pt x="5897" y="0"/>
                    <a:pt x="11538" y="2411"/>
                    <a:pt x="15614" y="667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5840">
              <a:solidFill>
                <a:srgbClr val="0275ae"/>
              </a:solidFill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  <p:sp>
          <p:nvSpPr>
            <p:cNvPr id="138" name="Rectangle 19"/>
            <p:cNvSpPr/>
            <p:nvPr/>
          </p:nvSpPr>
          <p:spPr>
            <a:xfrm>
              <a:off x="4267080" y="1301760"/>
              <a:ext cx="1143000" cy="1523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sp>
        <p:nvSpPr>
          <p:cNvPr id="139" name="Text Box 7"/>
          <p:cNvSpPr/>
          <p:nvPr/>
        </p:nvSpPr>
        <p:spPr>
          <a:xfrm>
            <a:off x="6109920" y="5697360"/>
            <a:ext cx="1607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 Narrow"/>
              </a:rPr>
              <a:t>T.Cao</a:t>
            </a:r>
            <a:r>
              <a:rPr b="0" lang="en-US" sz="1600" spc="-1" strike="noStrike">
                <a:solidFill>
                  <a:srgbClr val="990099"/>
                </a:solidFill>
                <a:latin typeface="Arial Narrow"/>
              </a:rPr>
              <a:t> &amp; B.Azmoun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40" name="Picture 22" descr="C:\Craig\GEM studies\Position resolution\Pad_19-20-21_Ru106_TripleCERN_Std_3-4-1_ED1kVcm_1p3cm_dV_370V_050211.bmp"/>
          <p:cNvPicPr/>
          <p:nvPr/>
        </p:nvPicPr>
        <p:blipFill>
          <a:blip r:embed="rId3"/>
          <a:stretch/>
        </p:blipFill>
        <p:spPr>
          <a:xfrm>
            <a:off x="5257800" y="1981080"/>
            <a:ext cx="3656160" cy="2741760"/>
          </a:xfrm>
          <a:prstGeom prst="rect">
            <a:avLst/>
          </a:prstGeom>
          <a:ln w="0">
            <a:noFill/>
          </a:ln>
        </p:spPr>
      </p:pic>
      <p:sp>
        <p:nvSpPr>
          <p:cNvPr id="141" name="Line 23"/>
          <p:cNvSpPr/>
          <p:nvPr/>
        </p:nvSpPr>
        <p:spPr>
          <a:xfrm flipH="1" flipV="1">
            <a:off x="6476760" y="4038480"/>
            <a:ext cx="609480" cy="1067040"/>
          </a:xfrm>
          <a:prstGeom prst="line">
            <a:avLst/>
          </a:prstGeom>
          <a:ln w="15840">
            <a:solidFill>
              <a:srgbClr val="00ff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082120" y="5943600"/>
            <a:ext cx="3661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 Narrow"/>
              </a:rPr>
              <a:t>(Stony Brook Biomedical Engineering Student) 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327000" y="5073480"/>
            <a:ext cx="22730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Arial Narrow"/>
              </a:rPr>
              <a:t>Late arriving charge clusters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99000" y="1523880"/>
            <a:ext cx="32425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 Narrow"/>
              </a:rPr>
              <a:t>Real data from GEM detector (0 degrees)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5" name="Line 28"/>
          <p:cNvSpPr/>
          <p:nvPr/>
        </p:nvSpPr>
        <p:spPr>
          <a:xfrm>
            <a:off x="4419720" y="12952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Line 29"/>
          <p:cNvSpPr/>
          <p:nvPr/>
        </p:nvSpPr>
        <p:spPr>
          <a:xfrm>
            <a:off x="4114800" y="2133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7" name="Line 30"/>
          <p:cNvSpPr/>
          <p:nvPr/>
        </p:nvSpPr>
        <p:spPr>
          <a:xfrm>
            <a:off x="4267080" y="12952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8" name="Text Box 31"/>
          <p:cNvSpPr/>
          <p:nvPr/>
        </p:nvSpPr>
        <p:spPr>
          <a:xfrm>
            <a:off x="4391640" y="14810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 mm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mulation of Micro TPC with GEM Readou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19881-77BA-4F2D-B649-C2B1D9B2F4E9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166880" y="6064200"/>
            <a:ext cx="1492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99"/>
                </a:solidFill>
                <a:latin typeface="Arial Narrow"/>
              </a:rPr>
              <a:t>N. Smirnov (Yale)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rcRect l="0" t="0" r="767" b="0"/>
          <a:stretch/>
        </p:blipFill>
        <p:spPr>
          <a:xfrm>
            <a:off x="2001960" y="1111320"/>
            <a:ext cx="4570200" cy="80316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9"/>
          <p:cNvGrpSpPr/>
          <p:nvPr/>
        </p:nvGrpSpPr>
        <p:grpSpPr>
          <a:xfrm>
            <a:off x="685800" y="2095560"/>
            <a:ext cx="4516200" cy="3663360"/>
            <a:chOff x="685800" y="2095560"/>
            <a:chExt cx="4516200" cy="3663360"/>
          </a:xfrm>
        </p:grpSpPr>
        <p:pic>
          <p:nvPicPr>
            <p:cNvPr id="155" name="Picture 7" descr=""/>
            <p:cNvPicPr/>
            <p:nvPr/>
          </p:nvPicPr>
          <p:blipFill>
            <a:blip r:embed="rId2"/>
            <a:srcRect l="0" t="0" r="2508" b="0"/>
            <a:stretch/>
          </p:blipFill>
          <p:spPr>
            <a:xfrm>
              <a:off x="685800" y="2180880"/>
              <a:ext cx="4345920" cy="35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8"/>
            <p:cNvSpPr/>
            <p:nvPr/>
          </p:nvSpPr>
          <p:spPr>
            <a:xfrm>
              <a:off x="3839040" y="2095560"/>
              <a:ext cx="1362960" cy="110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cc"/>
                </a:solidFill>
                <a:latin typeface="Arial"/>
              </a:endParaRPr>
            </a:p>
          </p:txBody>
        </p:sp>
      </p:grpSp>
      <p:pic>
        <p:nvPicPr>
          <p:cNvPr id="157" name="Picture 11" descr=""/>
          <p:cNvPicPr/>
          <p:nvPr/>
        </p:nvPicPr>
        <p:blipFill>
          <a:blip r:embed="rId3"/>
          <a:srcRect l="0" t="0" r="2913" b="0"/>
          <a:stretch/>
        </p:blipFill>
        <p:spPr>
          <a:xfrm>
            <a:off x="5126040" y="2413080"/>
            <a:ext cx="3124080" cy="34225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286280" y="286380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rial"/>
              </a:rPr>
              <a:t>22.5 deg</a:t>
            </a:r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77C7-D003-4769-A055-16DB6322CFE8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85800" y="4775040"/>
            <a:ext cx="7620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64 channels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adj. polarity, adj. maximum charge (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0.11 to 2 pC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), adj. peaktime (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25-200 ns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derandomizing peak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detection (10-bit) and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time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detection (1.5 ns)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real-time event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peak trigger and address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integrated threshold with trimming, sub-threshold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neighbor acquisition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integrated pulse generator and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calibration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circuits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analog monitor, channel mask, temperature sensor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continuous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measurement and readout, derandomizing FIFO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few mW per channel, chip-to-chip (neighbor) communication,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  <a:ea typeface="Arial"/>
              </a:rPr>
              <a:t>LVDS interface</a:t>
            </a:r>
            <a:endParaRPr b="0" lang="en-US" sz="1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1" name="Text Box 196"/>
          <p:cNvSpPr/>
          <p:nvPr/>
        </p:nvSpPr>
        <p:spPr>
          <a:xfrm>
            <a:off x="723960" y="81000"/>
            <a:ext cx="7696080" cy="398880"/>
          </a:xfrm>
          <a:prstGeom prst="rect">
            <a:avLst/>
          </a:prstGeom>
          <a:gradFill rotWithShape="0">
            <a:gsLst>
              <a:gs pos="0">
                <a:srgbClr val="994a4d"/>
              </a:gs>
              <a:gs pos="50000">
                <a:srgbClr val="ff7c80"/>
              </a:gs>
              <a:gs pos="100000">
                <a:srgbClr val="994a4d"/>
              </a:gs>
            </a:gsLst>
            <a:lin ang="13500000"/>
          </a:gra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MM1 ASIC for MicroMegas for ATLAS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758880" y="536400"/>
            <a:ext cx="7650000" cy="4453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7086600" y="5181480"/>
            <a:ext cx="17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BNL Instrumentation Division (G.DiGeronimo)</a:t>
            </a:r>
            <a:endParaRPr b="0" lang="en-US" sz="1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MM1 Front End Design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10DE-6DAF-4C59-911B-994EF3055E00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67" name="Picture 1028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5283000" cy="3657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29" descr=""/>
          <p:cNvPicPr/>
          <p:nvPr/>
        </p:nvPicPr>
        <p:blipFill>
          <a:blip r:embed="rId2"/>
          <a:srcRect l="0" t="0" r="2040" b="0"/>
          <a:stretch/>
        </p:blipFill>
        <p:spPr>
          <a:xfrm>
            <a:off x="5257800" y="1676520"/>
            <a:ext cx="3581280" cy="35798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7"/>
          <p:cNvSpPr/>
          <p:nvPr/>
        </p:nvSpPr>
        <p:spPr>
          <a:xfrm>
            <a:off x="1600200" y="5203800"/>
            <a:ext cx="624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First round front end design completed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First prototypes received back from fab in March 2012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Update tomorrow by Gianluigi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1266480" y="914400"/>
            <a:ext cx="32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Amplifier-Shaper-Discriminato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396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ylindrical Radial Drift TPC</a:t>
            </a:r>
            <a:endParaRPr b="0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Footer Placeholder 2"/>
          <p:cNvSpPr/>
          <p:nvPr/>
        </p:nvSpPr>
        <p:spPr>
          <a:xfrm>
            <a:off x="2743200" y="6477120"/>
            <a:ext cx="3429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58ed5"/>
                </a:solidFill>
                <a:latin typeface="Arial Narrow"/>
              </a:rPr>
              <a:t>C.Woody, EIC Tracking R&amp;D,  4/2/12</a:t>
            </a:r>
            <a:endParaRPr b="0" lang="en-US" sz="11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85800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FB42-C52A-4D02-90DF-44845C248AFB}" type="slidenum">
              <a:rPr b="0" lang="en-US" sz="1200" spc="-1" strike="noStrike">
                <a:solidFill>
                  <a:srgbClr val="558ed5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rcRect l="0" t="0" r="1008" b="0"/>
          <a:stretch/>
        </p:blipFill>
        <p:spPr>
          <a:xfrm>
            <a:off x="457200" y="990720"/>
            <a:ext cx="8226360" cy="49179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7"/>
          <p:cNvSpPr/>
          <p:nvPr/>
        </p:nvSpPr>
        <p:spPr>
          <a:xfrm>
            <a:off x="6632280" y="5908680"/>
            <a:ext cx="22291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99"/>
                </a:solidFill>
                <a:latin typeface="Arial Narrow"/>
              </a:rPr>
              <a:t>Proposed by T.Hemmick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2T21:24:35Z</dcterms:created>
  <dc:creator>Woody</dc:creator>
  <dc:description/>
  <dc:language>en-US</dc:language>
  <cp:lastModifiedBy>Elke-Caroline Aschenauer</cp:lastModifiedBy>
  <dcterms:modified xsi:type="dcterms:W3CDTF">2012-04-02T19:39:47Z</dcterms:modified>
  <cp:revision>337</cp:revision>
  <dc:subject/>
  <dc:title>PowerPoint Presentation</dc:title>
</cp:coreProperties>
</file>